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EB3-A758-4C95-BD9C-8569514D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B2E-53E0-49B1-A485-F32FEC4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7CA-C403-4B53-902C-7BEBA979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D1A-0F46-4E4E-9DBF-BDA8A892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C91-8656-406E-9D84-5808153B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71F1-6133-403D-87D2-4B5E608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4FF-0E91-4BE3-955D-00113EA3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B1E9-0FC7-491A-9EAA-784CAB7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B08B-3034-41CF-A738-D15E4A3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844-CF9E-4AFB-B42D-27C0364E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FD4-AD79-492C-AD73-510758F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70D-15B2-4705-9D49-0138A74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5736-8A20-4D12-AF75-97E1C07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2D70-9879-436B-A638-E8A684EB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501-7FDB-4C1C-982C-E73B188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FA8-893C-45C5-AB21-B46DD08F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1DA5-74AC-49DF-A92E-B7D03476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5E1-A86A-497E-BFA6-45D92264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82A-76D9-4693-9ECB-3170680C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745-FD4D-4477-9C06-B66300B2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15F-C435-494A-A83A-242F086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AB2-70E8-4BCE-A7F7-3C26EC5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C70-4171-40EC-A46F-82FE55F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3BC-5FD1-4E2E-AB61-1E12D4F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14D4-A046-44DC-9566-E0E7810E255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29FD-44AF-473E-B752-B09F94BC6A9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hotelplazaescribano.com/escribano/imagenes/juanramon5.jpg&amp;imgrefurl=http://www.hotelplazaescribano.com/escribano/index.html&amp;usg=__h1Mg6xUjCfFkPtWVXUTVwYDHkLU=&amp;h=450&amp;w=318&amp;sz=82&amp;hl=es&amp;start=15&amp;tbnid=UCR0GC05ycHBxM:&amp;tbnh=127&amp;tbnw=90&amp;prev=/images%3Fq%3Djuan%2Bram%25C3%25B3n%2Bjim%25C3%25A9nez%26gbv%3D2%26hl%3D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lengylitstj4.files.wordpress.com/2008/04/juan_ramon.gif&amp;imgrefurl=http://lengylitstj4.wordpress.com/2008/04/05/juan-ramon-jimenez/&amp;usg=__u924Qp2lxNOvtv2ImdQOLeOrzTs=&amp;h=369&amp;w=296&amp;sz=65&amp;hl=es&amp;start=5&amp;um=1&amp;tbnid=Crg_R5YPVTz3zM:&amp;tbnh=122&amp;tbnw=98&amp;prev=/images%3Fq%3DJuan%2BRam%25C3%25B3n%2BJim%25C3%25A9nez%26um%3D1%26hl%3Des%26rlz%3D1T4ADBS_esES236ES239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4.bp.blogspot.com/_cuQweEQbRF8/R_OYdBfu3EI/AAAAAAAABTg/TFfCX94zUYs/s400/caba&#241;a%2Bmonta&#241;a%2By%2Blluvia.bmp&amp;imgrefurl=http://cuentosprescindibles.blogspot.com/&amp;usg=__7zNB_Mvhofq7kPiqyGCgtgUHzok=&amp;h=300&amp;w=400&amp;sz=21&amp;hl=es&amp;start=63&amp;um=1&amp;tbnid=otVaobvQMttwfM:&amp;tbnh=93&amp;tbnw=124&amp;prev=/images%3Fq%3Dpaisaje%2Bvelado%2Bpor%2Bla%2Blluvia%26ndsp%3D18%26hl%3Des%26rlz%3D1T4ADSA_esES343ES345%26sa%3DN%26start%3D54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es/imgres?imgurl=http://img407.imageshack.us/img407/6430/zpvh8.jpg&amp;imgrefurl=http://www.skyscrapercity.com/showthread.php%3Ft%3D476317&amp;usg=__JtBJJ1iYVSeZ1H2xlBdZQal_SRU=&amp;h=480&amp;w=640&amp;sz=116&amp;hl=es&amp;start=55&amp;um=1&amp;tbnid=n1lR9XK0MQCMGM:&amp;tbnh=103&amp;tbnw=137&amp;prev=/images%3Fq%3Dvacas%2Ben%2Bel%2Bvalle%2Blluvioso%26ndsp%3D18%26hl%3Des%26rlz%3D1T4ADSA_esES343ES345%26sa%3DN%26start%3D54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es/imgres?imgurl=http://www.chessbase.com/espanola/images/reportaje/lluvia.jpg&amp;imgrefurl=http://www.chessbase.com/espanola/newsdetail2.asp%3Fid%3D2528&amp;usg=__NZrjSMV_fDcTd27oexh_aJJkfqs=&amp;h=269&amp;w=406&amp;sz=11&amp;hl=es&amp;start=49&amp;um=1&amp;tbnid=n8FmlHzMO_m_YM:&amp;tbnh=82&amp;tbnw=124&amp;prev=/images%3Fq%3Dentre%2Bel%2Bvelo%2Bde%2Bla%2Blluvia%26ndsp%3D18%26hl%3Des%26rlz%3D1T4ADSA_esES343ES345%26sa%3DN%26start%3D36%26um%3D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2182680" cy="2925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08360" y="566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1-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19280" y="404280"/>
            <a:ext cx="55450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Platero y yo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su obra más popula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82880" cy="4321080"/>
          </a:xfrm>
          <a:prstGeom prst="rect">
            <a:avLst/>
          </a:prstGeom>
          <a:ln w="9360">
            <a:solidFill>
              <a:srgbClr val="0066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140360" y="1844640"/>
            <a:ext cx="45352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obra que tiene como protagonista a Platero, un borriquillo que pasa sus días en Moguer junto a su amo, el poeta Juan Ramón Jimé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eta pasea con Platero por las calles y campos de Moguer y esos paseos le ayudan al poeta a conocer mejor la belleza de las cosas pequeñas de cada día: las flores, los pájaros, los niños, los sonidos del camp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obra no tiene argumento: son una serie de estampas de la vida de los dos protagonistas en Moguer escritas con un lenguaje bastante moder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180800" cy="115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5084640"/>
            <a:ext cx="2232000" cy="8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Si quieres escuchar un capitulillo de la obra pincha aqu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6fe"/>
            </a:gs>
            <a:gs pos="100000">
              <a:srgbClr val="fefe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403884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Más se fue desnudando,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y yo le sonreí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Se quedó con la túnic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de su inocencia antigu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reí de nuevo en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TAPA INTELECTUAL O POESÍA 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(1916-19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Influjo de la literatura ingl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Uso de octosílabos, asonancias, poemas breves, verso libre, poemas en pros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Concentración concept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Supresión de la adjetivación y del color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Temas: mar  (vida, soledad, gozo, eterno presente, unidad cósmica, belleza), ansia de trascend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Obras</a:t>
            </a: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3366ff"/>
                </a:solidFill>
                <a:latin typeface="Arial"/>
              </a:rPr>
              <a:t>Diario de un poeta recién casado, Eternidades, Piedra y cielo, Poesía, Belleza, La estac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63528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612720" y="-674640"/>
            <a:ext cx="10199520" cy="950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86160" y="1128240"/>
            <a:ext cx="3908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¡Intelijencia, dam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nombre exacto de las cosas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.. Que mi palabra sea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cosa misma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reada por mi alma nuevamente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í vayan todos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que no las conocen, a las cosas;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í vayan todos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que ya las olvidan, a las cos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i vayan 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mismos que las aman, a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¡Intelijencia, dam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nombre exacto, y tuyo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suyo, y mío, de las cosas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Eternidade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00"/>
                </a:solidFill>
                <a:latin typeface="Arial"/>
              </a:rPr>
              <a:t>POESÍA SUFICIENTE</a:t>
            </a:r>
            <a:br>
              <a:rPr sz="3500"/>
            </a:br>
            <a:r>
              <a:rPr b="1" lang="en-US" sz="35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(Desde 1936)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1887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Y se quitó la túnica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y apareció desnuda toda.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¡Oh, pasión de mi vida, poesía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desnuda, mía para si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Verso libre, romance, ca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Lenguaje profundo y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emas: comunicación con la naturaleza, sed de eternidad; identificación de Dios con la Naturaleza, con la Belleza o con la Conciencia cre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Obras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: </a:t>
            </a:r>
            <a:r>
              <a:rPr b="0" i="1" lang="en-US" sz="2100" spc="-1" strike="noStrike">
                <a:solidFill>
                  <a:srgbClr val="cccc00"/>
                </a:solidFill>
                <a:latin typeface="Arial"/>
              </a:rPr>
              <a:t>En el otro costado, Dios deseado y dese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4535280" cy="3232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333360"/>
            <a:ext cx="37432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OTOÑ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toy completo de naturalez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 plena tarde de áurea madurez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to viento en lo verde traspas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co fruto recóndito, conte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 grande elemental en mí (la tier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 fuego, el agua, el aire) el infin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55736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horreo luz. Doro el lugar oscur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smino olor: la sombra huele a dio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mano son: lo amplio es honda músic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iltro sabor: la mole bebe mi alm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leito el tacto de la sole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oy tesoro supremo, desasid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n densa redondez de limpio iri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l seno de la acción. Y lo soy 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o todo que es el colmo de la nad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l todo que se basta y es serv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 lo que todavía es ambi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estación tot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Nació en Moguer (Huelv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 vida estuvo marcada por su personalidad fuertemente depresiv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 esposa, Zenobia Camprubí, con la que se casó en Nueva York en 1916, fue una ayuda incondicional en su trabajo y en su vida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1951 ambos se instalan definitivamente en Puerto Rico, gracias a la generosa acogida de su univers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uvo una entrega total a la 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esí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or cuyo cultivo recibió el Premio Nóbel en 195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urió en 195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2781360"/>
            <a:ext cx="40384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781440" cy="52102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635280" y="577440"/>
            <a:ext cx="6156360" cy="57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empre le preocupó el tema de la muer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 VIAJE DEFI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yo me iré. Y se quedarán los pájaros cantand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se quedará mi huerto con su verde árbol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con su pozo blanc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das las tardes el cielo será azul y plácid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tocarán, como esta tarde están tocand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s campanas del campanari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 morirán aquellos que me amaron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el pueblo se hará nuevo cada añ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en el rincón de aquel mi huerto florido y encalad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 espíritu errará, nostáljic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yo me iré; y estaré solo, sin hogar, sin árbol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erde, sin pozo blanc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n cielo azul y plácido...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se quedarán los pájaros cantando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tenece, en realidad, a la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Generación del 14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Novecentismo,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una generación de intelectuales que defiende la literatura deshumanizada y el “arte puro”, cuya única finalidad es proporcionar placer estético, desvinculado de preocupaciones religiosas, políticas o personal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Juan Ramón ha pasado a la posteridad sobre todo por su concepto de  “poesía pur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presenta un nexo de unión entre el Modernismo, en el que inicia su quehacer poético,  y la Generación del 27, pues muchos de los poetas de dicha generación lo consideran un precurs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1484280"/>
            <a:ext cx="381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Vino, primero, pura,</a:t>
            </a:r>
            <a:br>
              <a:rPr sz="1600"/>
            </a:b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vestida de inocencia;</a:t>
            </a:r>
            <a:br>
              <a:rPr sz="1600"/>
            </a:b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Y la amé como un niño.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Luego se fue vistiendo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de no sé qué ropajes;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y la fui odiando sin saberlo.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Llegó a ser una reina,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fastuosa de tesoros…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¡Qué iracundia de yel y sin senti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Mas se fue desnudando.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Y yo le sonre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Se quedó con la túnica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de su inocencia antigua.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Creí de nuevo en ella.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Y se quitó la túnica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y apareció desnuda toda.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¡oh pasión de mi vida, poesía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desnuda, mía para siempre</a:t>
            </a:r>
            <a:r>
              <a:rPr b="0" i="1" lang="es-ES" sz="1600" spc="-1" strike="noStrike">
                <a:solidFill>
                  <a:srgbClr val="990099"/>
                </a:solidFill>
                <a:latin typeface="Arial"/>
              </a:rPr>
              <a:t>!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221000"/>
            <a:ext cx="1503360" cy="1872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Etapas de su poesí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55736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2276640"/>
            <a:ext cx="216000" cy="10810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64500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4653000"/>
            <a:ext cx="71640" cy="719280"/>
          </a:xfrm>
          <a:custGeom>
            <a:avLst/>
            <a:gdLst>
              <a:gd name="textAreaLeft" fmla="*/ 0 w 71640"/>
              <a:gd name="textAreaRight" fmla="*/ 2592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162864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Poesía becque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24922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Poesía modern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1557360"/>
            <a:ext cx="71280" cy="1800360"/>
          </a:xfrm>
          <a:custGeom>
            <a:avLst/>
            <a:gdLst>
              <a:gd name="textAreaLeft" fmla="*/ 0 w 71280"/>
              <a:gd name="textAreaRight" fmla="*/ 25560 w 71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234936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2133720"/>
            <a:ext cx="1584360" cy="307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apa sen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41497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3789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Poesía  intelectual o p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72428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Poesía sufi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d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Vino primero p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Vestida de inoc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Y la amé como un niñ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7960" y="476280"/>
            <a:ext cx="319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SÍA BECQUERI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sta 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jo de Bécquer y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bolismo fra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o corto, sobre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sílabo y estrof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c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lo senc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s: amor, tiemp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erte, paisaje melancól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eda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ias tris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rdines lejan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das de 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4038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ntre el velo de la lluv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que pone gris el paisaj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asan las vacas, volvie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de la dulzura del val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s tristes esquilas sueñ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alejadas, y la tar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va cayendo tristement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sin estrellas ni cantar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 campiña se ha qued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fría y sola con sus árbol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r las perdidas vere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hoy no volverá ya nad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Voy a cerrar mi vent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rque si pierdo en el va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mi corazón, quizá quie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morirse con el paisa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(Arias tris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197000"/>
            <a:ext cx="153360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2492280"/>
            <a:ext cx="1592280" cy="11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3860640"/>
            <a:ext cx="1757520" cy="11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Luego se fue vistiendo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de no sé qué ropajes;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y la fui odiando sin saberlo.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Llegó a ser una reina,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fastuosa de tesoros…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¡Qué iracundia de yel y sin sentid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735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40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0"/>
            <a:ext cx="2916360" cy="63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SÍA MODER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sta 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jo de los poe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nistas  y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bolismo franc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o alejandrin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ma consonan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eto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lo más cuid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etivos colorist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ítetos,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drújulas… (s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un modernis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imi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as: amor, tiemp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erte, impre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uales, paisa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ancólico, soleda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213000"/>
            <a:ext cx="316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lmas de viole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infeas, Elejí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soledad sono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emas máj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dolientes, Sone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pirituales, Platero y y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616200" cy="51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67280" y="1268280"/>
            <a:ext cx="57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ene una esencia triste de jazmines con l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 el llanto de una música romántica y lejan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 las estrellas baja, dolientemente,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risa con los colores nuevos de la mañan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spectral, amarillo, doloroso y frag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 la niebla de la avenida voy perd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io de la armonía, roto de lo dist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erto entre rosales pálidos del olvi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 aún la luna platea las frondas de tibi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ando ya el día rosa viene por los jardi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egando en sus lumbres esta vaga tris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 música, con llanto, con brisa y con  jazm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soledad sonora(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21:51:33Z</dcterms:created>
  <dc:creator>Jose Antonio</dc:creator>
  <dc:description/>
  <dc:language>en-US</dc:language>
  <cp:lastModifiedBy>Dpto</cp:lastModifiedBy>
  <dcterms:modified xsi:type="dcterms:W3CDTF">2003-01-13T03:05:54Z</dcterms:modified>
  <cp:revision>39</cp:revision>
  <dc:subject/>
  <dc:title>Diapositiva 1</dc:title>
</cp:coreProperties>
</file>